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A8FC-01E3-4D51-A1E5-AEDBF3EE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E090-67ED-424B-8750-1F5AC054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2982-27B8-4057-B8F1-F4261F32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277-2E36-4DDA-B75D-E40B6C80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A5C-FE56-4CEB-AAAA-91797DB0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FA4-D3E8-4CAD-AFDC-B3C060F5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CF1B-8C25-4F5D-8A96-EF379DFC1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56A9-1DB2-4028-8893-747EE3C6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F7B-B5B8-486E-B2D4-7E53EA9D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732-9232-4A49-97CD-5E0AF744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F785-7DB0-4BDA-853D-57379944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DD2E-01A9-4B48-8209-9C5BCE07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C9C-8D2E-4FEA-AE76-31A01EB5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CFA0-6366-436E-9A61-7850F0EA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26BA-CB61-4FEC-B1B7-363D13A1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0A4-70E1-4B0A-B2A9-E7BC8563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8E9-A144-485A-81C6-BC72BB02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AAFB-AF28-4A5D-9EC5-7F4C14C5F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959E-BE36-4DE7-B085-5A8A7F1F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62FD-E6F8-49FE-B343-94F333977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77FB-7366-41B1-A941-94B04EA0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4C3-AB3B-4B97-B836-06AD73F67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CF7-F21C-4724-BF4D-673924FE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A5EF-A8E2-4D93-8F51-7D9895DC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62A3-C409-4687-B80C-D439648F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BAC-2E13-4DF8-9264-403A0B6B7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234-B13F-40AA-8D2B-D1FB3A56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991-9B9A-4987-B2BB-39BA3F66A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2A5-9A9E-4B00-9F0D-F6A25493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5B6A-0AB8-40EA-A1E0-F14B7689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4D83-7440-47F3-8262-85B38341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2EFA-14E9-4F70-8AF7-43EBFDECA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0D6-EE42-4025-8AC2-61CC3D3D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0572-0605-4A93-B768-5A0C6837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3C86-D2E4-4D9D-8CE1-4D402BDC4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2976-F24C-4E85-A5CF-083E0CAB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0BA4-40C5-49EA-BF42-C21F3731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37ED-FB5A-480B-9BE4-6F49894A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7CF9-7BD6-4815-A184-C6F39D45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096C-8821-42C5-B560-1D1C7B49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9577-A2D3-4C08-9E33-8620602A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823-0911-41D1-AF03-B3335F9A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BDE4-4F64-4E03-B13B-46B3452BD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EE2-3FDA-4A65-B65C-75ECC361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885-83E0-48FF-930B-916ADE09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9A93-302F-4897-BB88-7F1FA9AF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03CD-82CC-4957-A446-6B9B87FC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4AA-5B26-4764-819C-9B640415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ECB-C4A2-4B57-9E50-9A43B62D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9C5-2D94-4EE3-A746-CACC97C8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F393-9D6B-4905-A632-CE5AB2C1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B4E6-CD9F-4031-985C-063E4097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6EB-0815-4FAB-809D-FBB2E81DD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14E-7221-4613-A7C7-D90BEDB7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FC1-B872-47F5-8735-ACD20456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38C5-1726-469A-88CB-33937FC8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5E7-3A28-4C7C-ACB5-CD0629A0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E61-398B-486D-A496-B447C8EF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1D3-CD39-42CF-BA36-7E67F06C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D75-C2FA-451F-B516-6B60A2A0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EF2D-E659-40C0-AAA2-8BCAE3CF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CBE1-1615-46BA-AD97-332C96B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50B4-35BD-4E80-8008-5C400F8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E95-6B1E-49C4-8200-DEAF9770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BC63-F341-4DF5-9970-7204184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8CAF-B400-430E-BA92-B409CEFD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EB82-B1DC-4C08-84CB-5EFDC1E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C80-F0B2-42BA-82D9-963E7E51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1F84-FECA-43E2-B524-FB65745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8D7-5F79-43F8-AB78-52E6D1C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4757-8442-4688-9FCA-117F7CD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BF7-FAAA-475F-8FCB-828971D7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067B-6702-4A9A-B316-D3472174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4E7-5F9F-4370-947F-4E2E99F0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99A-288D-4DD4-96D9-F1403A67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842-565D-4B90-BBC4-85CFFDF7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D61-8769-4BA6-9153-BBE8BCCB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C30-5689-4C7C-A623-7104CB7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739-6B19-4BE2-8366-6E1BFFE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469-1831-4D0F-A1CC-104F2A4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D554-7703-4E30-BB98-97C3FF89C7B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11C-332C-4E94-8907-BB21EA6AFDB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295-89A0-4BF4-888E-C8D06C99EF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14400" y="1676520"/>
            <a:ext cx="74167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are y = 3x +2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= 5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92A5-A0DA-4004-84F7-A2ACBEAF45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6765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a relation is lin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8A65-88CA-422A-97EA-ABADD45D5D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167652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raph of a linear relation goes through (2,3) and has slope 4. What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EC7-CED2-4B31-A353-9966A9F7B6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arking 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190512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talk about parking lot questions at the end of the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DC1F-6144-4802-9C2B-3992633C9B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ridging the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14400" y="1676520"/>
            <a:ext cx="741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a problem to see how thinking about difficulties students might have could affect subsequent lesson goals or could affect the task you s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1FC-CB32-4FA1-91F0-DE683F535F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828800"/>
            <a:ext cx="7417080" cy="85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994-673D-4440-8E82-59EDE035A5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1828800"/>
            <a:ext cx="7417080" cy="78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DD3-BBB7-452B-8AF6-5E647C7A07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AEAE-9561-45BE-B8F6-4FA0652358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828800"/>
            <a:ext cx="7417080" cy="78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DD5-4F87-4F01-8CC2-042312F759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90720" y="19051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posted what we did yesterday (nothing that I didn’t do) except the BLM with the reshaped goals have sample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9687-17A4-4E48-98A8-163D4D53AC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it lead you to differentiate instruction inst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13C-BACE-482F-8AF2-E2513635B9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1B77-F17D-418D-A796-C5E66FF83D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E6B-7D18-49CE-9604-12B5AB2D93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B913-57AE-4A5E-BB97-7ECEFC458F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1E2-FE25-4A7F-9E12-5219752018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plan to address these difficul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AE52-F4C1-4656-9477-94B048046D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9A8-3B22-4776-9826-83BE697522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with a particular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C8D8-1FC2-4061-B70A-7EC4DA0D64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9EB9-4131-4905-B3B2-B866BBE067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6E4F-1A28-4EBC-8B10-065E9A6D18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85800" y="9907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 yester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0720" y="190512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focus in on a goal you can accomplish in on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7677-223C-4F7C-B493-263A36EDF4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31DC-D653-43E0-9B36-ADFE63456E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990720" y="2590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ould provide alternate versions of the money problem to deal with some of those difficulties students might have. What might they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8BB4-F221-41A6-9B41-118CA56B09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different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ose this: 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A218-D1D9-4ED5-8F33-76DB3497F9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2 to the right and 3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C182-810F-4A1F-85EF-3F62442C37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3 to the left and 2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8F3-D08B-45A6-AC80-FCEBD52C2C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s write y =-2/3 x + 8 and substitute two different values for x  but have trouble with the arithmetic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B9E2-1615-47BD-B76F-41B350E62B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2D0-D23A-49C7-860C-8DC68DDEE5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876920" y="205740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1765-8C0B-4FF0-8240-F78B19247D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214956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3/2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548-C13A-4BAA-AC70-3388EE1D237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9B21-0307-42BC-90F1-01A773FC11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41480" y="20574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ask a question that is really assessing your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A000-1D62-433E-90E8-AD47BEE38A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5C3-1BB6-4925-A55E-A7DB9489D4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77C5-94AC-4BEE-B1A1-2AC3E52FDB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sic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5CB-3D5B-4AD7-B5A5-8AA23A6B85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214956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a : $1.15 in quarters/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3200400"/>
            <a:ext cx="7772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y : $0.80 with half the quarters/twice the 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each for Li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8671-8A82-4E7C-B270-9146C22BB2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2120" y="214956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1:  Use equations to model the problem and then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2: Solve the problem using only number thin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4A9C-C21D-43FA-802A-C0C1E6BC7D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762120" y="1905120"/>
            <a:ext cx="77724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9B6-8106-444B-A8C3-84D598A6AE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6B14-4892-451E-9C11-5162236682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78AD-5D7F-4783-ABE1-18C012BACB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1981080"/>
            <a:ext cx="320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343400" y="1828800"/>
            <a:ext cx="3657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6C8C-5F66-45F3-B9CB-F5BAF7C9F6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949-8817-4261-B0AE-52AE2D8419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16765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r goal is about understanding or about important mathematical thinking and not just “doing”, your consolidation question has to reflect t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C3E5-DB58-4D4D-97A5-82A803E8CD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86DC-DC9F-4381-9B9A-880BB4F1C1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156-1490-458B-8EC8-B16AC86140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1752480"/>
            <a:ext cx="7696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F62A-1158-427F-9DCE-F20FCA47A8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175248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601-6619-409B-988A-A8DA0326DE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62120" y="175248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a “flow chart” to show the steps you would take to create parallel tasks. Draw on chart pa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39C3-8A40-44F7-8251-8956E17B2F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62120" y="1752480"/>
            <a:ext cx="7696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steps would be hardest to do al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E09D-DAAF-462F-9AC5-31D9A66406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2120" y="1752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your flowch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te in a gallery wal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86C-F34B-4EAD-A175-8A7ECEAB8C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14400" y="16765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wo representations of your linear relation and tell how they are similar or differ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8F9-10E5-42D6-A022-8A2E6B6E1F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4400" y="16765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situation where one representation is clearly more useful than the oth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37F-BEE1-4054-8422-EB32792A69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Vs.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914400" y="16765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 an example of a situation where a graph would not hit the point of origin.  &lt;I see this as minds-on more than consolidat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D1A6-1579-4662-9F56-D80EF9089C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7:26:43Z</dcterms:created>
  <dc:creator>PSteele</dc:creator>
  <dc:description/>
  <dc:language>en-US</dc:language>
  <cp:lastModifiedBy>Marian Small</cp:lastModifiedBy>
  <dcterms:modified xsi:type="dcterms:W3CDTF">2009-08-19T15:31:37Z</dcterms:modified>
  <cp:revision>258</cp:revision>
  <dc:subject/>
  <dc:title>Slide 1</dc:title>
</cp:coreProperties>
</file>